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8C2-0098-4803-9873-3A017B49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957-11AE-4BCC-AB5E-AEE43B5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DC8-5CFB-455A-8998-D4659E62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B69-BE8B-4028-9896-80F6DB6A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F0C-7AB3-403D-80C8-15A20275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1913-A14F-48AA-82F1-D409327A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9DD1-824F-4901-8795-DA828B1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EB5-CA86-48DD-AB7A-344FED0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75D3-EF5E-43E2-8702-7F258042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3968-C05C-416E-9A8B-B9DAD9D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4661-FD6A-4F36-8AFF-EBE8629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816-5E47-4F77-8396-459759DC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DF76-21C0-49D1-8C80-0CE4E4D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4D0-E986-4414-A4A3-EFFDBF9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C9C-E1C5-4658-8B6E-C370E85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B9C9-551A-45B8-AB94-64D8A27A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CFC-D862-44B2-8E59-44AA7B5B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B4D-A54F-4884-85A7-E74FB23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1E9-F21C-409A-B8EC-04338E7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609-D4B6-4394-86C2-526BF470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2CD-434D-4523-A479-C787C9D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F97-82DE-4D81-9F44-BEE8AB2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C83-0B1C-4DEF-ACA3-7D9CC916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EAE-CF57-4C6B-A463-3C24115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B41-24C0-48A7-A42D-A652972F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3050-2193-474D-8954-01677787F46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7.03 Functioning Home Office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Telecommuter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eople who work from their homes using computers, modems, fax machines, teleconferencing equipmen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Modem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chnological advancement that allow several people within a home to us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uters to send and receive information within seconds and mom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Wireless technology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thod of sending signals over the airwaves rather than through wires or cables.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s computers/laptops to be used in any room of the house or outside the home (in businesses/restaurants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-Fi: uses a narrow range of low frequency, low energy radio waves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Surge protector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cts equipment from damage due to power surg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lters out sudden increases in power created by the local power company or a storm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r best protection use a 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central uni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hat protects the whole home at once. Has its own circuit breaker and should be placed close to the panel box. Can be placed in new or older homes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Ergonomic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 applied science concerned with designing and arranging things so they are safe, comfortable, and efficient for people to use.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s is an environment that facilitates frequent changes in body positions and avoids eye-straining glare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Guidelines for planning home offices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rrange the work area int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L or U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hape. Place a swivel chair in the middle so that turning or rolling slightly, everything is in reach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hen seated, the computer, telephone, and file storage should be within easy reac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n for plenty of work surface. A desk should be 24” deep and 36” wid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vertical space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tall bookcases), rolling filing cabinets, corner bookcas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la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for enough storage and extra storage for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utur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storage wisely by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toring similar items together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Put frequently used items close for handines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cation of home office depends on the type of work there and the availability of space. Home offices range from a corner of the family room to a whole room. Make sure there is adequate work area and filing area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eparate entrance is optimal but any room can be used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office should b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ocated AWAY from the main part of the house. </a:t>
            </a:r>
            <a:r>
              <a:rPr b="0" lang="en-US" sz="2400" spc="-1" strike="noStrike">
                <a:solidFill>
                  <a:srgbClr val="1bb2ff"/>
                </a:solidFill>
                <a:latin typeface="Verdana"/>
              </a:rPr>
              <a:t>Be mindful of the zones in the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m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heck local business zoning laws to see if business can be conducted in the home if clients will be visiting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14:32Z</dcterms:created>
  <dc:creator>s.brooks</dc:creator>
  <dc:description/>
  <dc:language>en-US</dc:language>
  <cp:lastModifiedBy>s.brooks</cp:lastModifiedBy>
  <dcterms:modified xsi:type="dcterms:W3CDTF">2011-05-05T14:15:11Z</dcterms:modified>
  <cp:revision>3</cp:revision>
  <dc:subject/>
  <dc:title>7.03 Functioning Home Office </dc:title>
</cp:coreProperties>
</file>